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BAB-BFA6-4AF9-AF0B-D4F43AB8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685-4228-423C-AC7F-2DA99466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4F0-78D9-4FB0-B01A-9C8ABD512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176B-F3C5-4290-BD75-0B6E6789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C8DE-28E3-4628-B3BB-12D77BFF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B860-05A7-4814-8A7F-84E706D7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59CA-9BE2-474A-9B7D-89E20983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587F-D880-4F48-82DF-71B55D5E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CCFC-D976-4ACF-98FF-E1D08E6A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9E3C-DB92-4003-ADA5-E73E1E68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D898-3071-4EE0-8DDC-353DF2A9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EE7-3DC4-4BEC-84FA-1B29032E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A9A6-B7D7-476D-924D-977EF81C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91DA-6FF0-4D16-9885-5E102C40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3C65-8163-491F-A5E9-FAEC33E2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0643-237E-4D1B-B666-647F0734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9081-E2E1-4C4D-B42D-B53B334F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DD4-385F-4E6D-839C-455ADC95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7E3-201D-4DB0-B547-AB4B4169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F12-ABAD-4B38-BD6C-1864C1D1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9F7-EB6D-426F-B835-0CEEDBEE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BE1-F3BD-4759-8B07-C339036D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4D7-D03E-4D15-A23A-0EEF67A0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D84-AE76-4AEF-91E3-0EA6FA2B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FDDA-07F4-4603-9EFB-DEC7C48DD1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A45A-1331-469B-A004-14271D7181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ome thoughts to help you revise the IGCSE Poetry Anthology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t can’t do any harm to read it, can it 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range fits of passions….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one of those sweet dreams I slept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ind Nature's gentlest boon!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all the while my eyes I kep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 the descending moon.                                 2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y horse moved on; hoof after hoo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 raised, and never stopped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n down behind the cottage roof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t once, the bright moon dropp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fond and wayward thoughts will slide      2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o a Lover's head!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"O mercy!" to myself I cried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"If Lucy should be dead!"      (1799.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st of the  Lucy po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LUMBER did my spirit seal;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had no human fears: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 seem'd a thing that could not feel 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touch of earthly yea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motion has she now, no force;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         5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 neither hears nor sees;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ll'd round in earth's diurnal course 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rocks, and stones, and trees. 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re is another powerpoint to help your revision….check it out….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’s called “How to answer on poetry in the examination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mes that link poems together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are some of the themes that the exam board identifies. There may be others, so look for them yourself……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injustice/lack of freedom/poverty: Carpet Weavers, Morocco; Song to the Men Of England; Spectator ab Extra; Muliebrity; Caged Bird; Plen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mes….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ren/childhood: Rising Five; Little Boy Crying; Carpet Weavers, Morocco; Before the Sun; Plen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tality ( the inevitability of death): Rising Five; She dwelt among the untrodden ways; Before the Sun; The Old Familiar Faces; Mid-Term Brea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iry tales: Little Boy Crying; Storytell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mes….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re and Mankind’s relations with it: Rising Five; She dwelt among the untrodden ways; Before the Sun; Farmh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men (their roles as mothers and workers/their strength): Muliebrity; Plenty; Storyteller;She dwelt among the untrodden wa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mes….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pectives changing over time: Rising Five; Little Boy Crying; Plen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ults and Children: Little Boy Crying; Plen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ories and the Imagination: Little Boy Crying; Storyteller; Before the Sun; The Listen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Other Lucy Son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Slumber Did My Spirit Se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slumber did my spirit seal;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had no human fear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 seemed a thing that could not feel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touch of earthly yea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motion has she now, no force;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 neither hears nor sees;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lled round in earth's diurnal course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rocks, and stones, and tre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mes…… cont’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World of Work: carpet Weavers, Morocco; Monologue; Muliebrity; Farmha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 Person Narrative ( a story told using the pronouns I/me/mine): Monologue; Little Boy Crying, Plenty; Spectator ab Extra; Mid-Term Brea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rtrait of a character: Farmhand; Monologue; Plenty; Muliebrity; She dwelt among the untrodden wa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Lucy Po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 TRAVELLED among unknown men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 lands beyond the sea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or, England! did I know till the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love I bore to thee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'Tis past, that melancholy dream!                                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or will I quit thy sho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second time; for still I see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o love thee more and more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mong thy mountains did I fee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joy of my desire;                                                   1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d she I cherished turned her whee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eside an English fire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y mornings showed, thy nights concealed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bowers where Lucy played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d thine too is the last green field                              1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at Lucy's eyes surveyed.        (1799.)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Lucy Po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TRANGE fits of passion have I known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d I will dare to tell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ut in the Lover's ear alone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hat once to me befell.                                       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hen she I loved looked every day                     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resh as a rose in June,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 to her cottage bent my way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eneath an evening-moon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Upon the moon I fixed my eye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over the wide lea;                                            1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ith quickening pace my horse drew nigh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ose paths so dear to me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d now we reached the orchard-plo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d, as we climbed the hill,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e sinking moon to Lucy's cot                             1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ame near, and nearer still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0:56:13Z</dcterms:created>
  <dc:creator>skenny</dc:creator>
  <dc:description/>
  <dc:language>en-US</dc:language>
  <cp:lastModifiedBy>skenny</cp:lastModifiedBy>
  <dcterms:modified xsi:type="dcterms:W3CDTF">2008-03-18T03:26:53Z</dcterms:modified>
  <cp:revision>2</cp:revision>
  <dc:subject/>
  <dc:title>Some thoughts to help you revise the IGCSE Poetry Anthology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